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A47-7E64-44BF-B786-A569D353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FB5F-A2B4-49D2-846A-95AE658F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D12-28A0-42CE-93BC-D90D0361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FEFB-91A1-4C77-A174-8F2993E1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B7E-810D-4A83-9E1C-3CB3834C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844-7190-48F2-8AA6-C7673CAC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12E-FF03-4CAE-B2DF-F8EC04D6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56C-0C48-43B1-8786-59D64832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AADD-3041-418B-8933-D5CA1B9E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21AE-D450-41EC-B32F-166D6B6D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3F3A-4512-445E-B45E-DC0BA638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5075-CD4C-4879-ABF2-ED9CE128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5732-8877-4B43-8DC0-1B22EE35D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45;&#1043;&#1069;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3640" y="188640"/>
            <a:ext cx="35956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Деятельность мозга </a:t>
            </a:r>
            <a:br>
              <a:rPr sz="3200"/>
            </a:br>
            <a:r>
              <a:rPr b="1" i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и </a:t>
            </a:r>
            <a:br>
              <a:rPr sz="3200"/>
            </a:br>
            <a:r>
              <a:rPr b="1" i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пита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4897440" cy="29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оможет успешно грызть гранит нау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Черник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способствует кровообращению мозга. Лучше всего есть свежие ягоды или варень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ЕГ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Что происходит с нами, когда мы мыслим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Непрерывно работ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свыше 100 миллиар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нервных клет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причем каждая связана с еще 10000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Arial"/>
              </a:rPr>
              <a:t>Как работает моз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Каждую секунду нервные клетки одновременно обмениваются информацией и подают миллионы сигналов. Для того чтобы этот сложнейший механизм функционировал без сбоев, клеткам серого вещества мозга необходимо большое количество энер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работает моз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Мозг ежедневно забирает 20 процентов всей энергии, получаемой с пищей. Таким образом, то, что мы едим, решающим образом сказывается на работоспособности нашего моз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лучшить память помож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11280" y="1196640"/>
            <a:ext cx="6400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Морков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особенно облегчает заучивание чего-либо наизусть за счет того, что стимулирует обмен веществ в мозгу. Наш совет: перед зубрежкой съесть тарелку тертой моркови с растительным масл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208908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родукты для улучшения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Ананас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— любимый фрукт театральных и музыкальных звезд. Тот, кому необходимо удерживать в памяти большой объем текста или нотных знаков, нуждается в витамине С, который в достаточном количестве содержится в этом фрукте. Кроме того, в ананасах очень мало калорий (в 100 г всего 56). Достаточно выпивать 1 стакан ананасового сока в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может …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умн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9933"/>
                </a:solidFill>
                <a:uFillTx/>
                <a:latin typeface="Arial"/>
              </a:rPr>
              <a:t>Авокад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 источник энергии для кратковременной памяти (например, при составлении планов, расписаний, списков покупок и т.д.) за счет высокого содержания жирных кислот. Достаточно половины пло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008080"/>
                </a:solidFill>
                <a:uFillTx/>
                <a:latin typeface="Arial"/>
              </a:rPr>
              <a:t>Успешно грызть гранит науки помогает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Капус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нимает нервозность. так как снижает активность щитовидной желе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бы прошел «мандраж», съешьте салат из капусты перед экзаменами, и вы спокойно к ним подготовит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Вкусно и очень полезн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Лимон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ежает мысли и облегчает восприятие информации за счет ударной дозы витамина 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занятиями иностранным языком неплохо выпить стаканчик лимонного с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71640" y="4437000"/>
            <a:ext cx="2124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9:12:42Z</dcterms:created>
  <dc:creator>User</dc:creator>
  <dc:description/>
  <dc:language>en-US</dc:language>
  <cp:lastModifiedBy>Сарабарова</cp:lastModifiedBy>
  <dcterms:modified xsi:type="dcterms:W3CDTF">2009-03-20T12:56:32Z</dcterms:modified>
  <cp:revision>9</cp:revision>
  <dc:subject/>
  <dc:title>Деятельность мозга и питание.</dc:title>
</cp:coreProperties>
</file>